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95C6-4F82-4506-84EB-EB5A89033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68A7-4FBF-4B23-82A7-B4AA20BF6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ing capacity should focus on these iss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5919-94A2-4D82-987F-9542C20B2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2A95-4DE6-4218-8EA4-1AEEAEAD2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for capacities 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7D1C-B5E0-4343-9E1C-8D88EE8A2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nee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8F5C-454C-4C7D-AED6-1C3FE1470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02F3-5FB4-4524-8414-02F8EA8EA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the last three decades great advances have been  made in science. Here I group the applications in to two groups. Science for development as well as application for Emergency Preparednes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1B88-549A-48BC-AE50-ED4A6BF97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AD covets the supports of partn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DAD0-A481-4547-A828-068135FD5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EA39-A33E-401F-BC98-EA7202AAE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5152-2B0A-442C-B1F7-5BC944C15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behalf of NPCA and the AUC thank the organizers for the invi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B54C-5BB0-43A9-A8D2-CDBC76F51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157F-6C6B-4BFA-B3B6-94EC2034C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BEFF-DDB7-4887-B119-87B30BBBF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B9D5-A7DD-48B1-8029-50083BDCA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8B93-B20E-4D15-BC55-9709D44B7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30A7-8939-49C9-9B7B-CE0E03322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the Food Security cluster – establishment of CAA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C7C0-4311-4455-962F-D1482A22E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CA64-A39A-483E-BC71-769D9C79A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A1E9-CBD6-4657-BBEA-1765685E3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DCF8-255F-4031-97D8-0C690467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3430-BB52-4AEA-934D-DA5E123B7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4555-62FC-4937-9CBA-59703E6DC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E0D1-EF49-44D0-BD77-9C241C7A0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23C6-6773-41B3-A2E1-BBD200B6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DF82-8517-4BF6-AB1F-5C5B9C18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2AFA-7C88-4DB7-83B9-34F370C4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908E-1E1D-41C5-8671-8D9DBEAC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C866-F973-42D7-8913-01A17D9B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B190-4D38-4FFB-B457-103440FF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E68A-D8DA-4478-A906-49BF4CD1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D85F-F4A8-437F-BA0F-3205C981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579A-B3D2-4DBE-91B5-5538A3E9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22E05-DBF4-423F-AD84-E9E247AB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1089-C562-459F-80D2-99CCBAC14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1BE0-46FD-4BE3-930E-FD1299A4C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5A13-E2B5-41B1-98D4-9B495328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0E00-419A-4513-A439-31FFEF32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50E8-7140-4C83-9ED9-28107DF5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949C-462D-478A-A242-2105FEEE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B048-F2CE-4454-BC36-501F211C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0FC8-D9E7-4D69-B6B9-1A4B78C7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13FD-40A1-4731-B36B-A5972992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"/>
          <p:cNvPicPr/>
          <p:nvPr/>
        </p:nvPicPr>
        <p:blipFill>
          <a:blip r:embed="rId2"/>
          <a:stretch/>
        </p:blipFill>
        <p:spPr>
          <a:xfrm>
            <a:off x="650880" y="0"/>
            <a:ext cx="8493120" cy="6864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46C1-09F0-457D-B3A2-4894920F708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NPCA logo.jpg"/>
          <p:cNvPicPr/>
          <p:nvPr/>
        </p:nvPicPr>
        <p:blipFill>
          <a:blip r:embed="rId3"/>
          <a:stretch/>
        </p:blipFill>
        <p:spPr>
          <a:xfrm>
            <a:off x="3924360" y="5445000"/>
            <a:ext cx="2450880" cy="12081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10 year logo-latest 51.jpg"/>
          <p:cNvPicPr/>
          <p:nvPr/>
        </p:nvPicPr>
        <p:blipFill>
          <a:blip r:embed="rId4"/>
          <a:stretch/>
        </p:blipFill>
        <p:spPr>
          <a:xfrm>
            <a:off x="6012000" y="5805360"/>
            <a:ext cx="2555640" cy="85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9" descr=""/>
          <p:cNvPicPr/>
          <p:nvPr/>
        </p:nvPicPr>
        <p:blipFill>
          <a:blip r:embed="rId2"/>
          <a:stretch/>
        </p:blipFill>
        <p:spPr>
          <a:xfrm>
            <a:off x="650880" y="0"/>
            <a:ext cx="8493120" cy="6864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NPCA logo.jpg"/>
          <p:cNvPicPr/>
          <p:nvPr/>
        </p:nvPicPr>
        <p:blipFill>
          <a:blip r:embed="rId3"/>
          <a:stretch/>
        </p:blipFill>
        <p:spPr>
          <a:xfrm>
            <a:off x="3924360" y="5445000"/>
            <a:ext cx="2450880" cy="1208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10 year logo-latest 51.jpg"/>
          <p:cNvPicPr/>
          <p:nvPr/>
        </p:nvPicPr>
        <p:blipFill>
          <a:blip r:embed="rId4"/>
          <a:stretch/>
        </p:blipFill>
        <p:spPr>
          <a:xfrm>
            <a:off x="6012000" y="5805360"/>
            <a:ext cx="2555640" cy="8575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87640" y="61653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A887-F035-4F32-B1D1-97D74A22E28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CAADP’s Pillar III and Africa’s Capacity Building Requirements for Food Security Information Systems</a:t>
            </a:r>
            <a:br>
              <a:rPr sz="4000"/>
            </a:b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itle 2"/>
          <p:cNvSpPr/>
          <p:nvPr/>
        </p:nvSpPr>
        <p:spPr>
          <a:xfrm>
            <a:off x="395280" y="2852640"/>
            <a:ext cx="77724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2050920" y="27813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keholders Consultative Conference on the Food Security Information Network (FSIS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fari Park Hotel, Nairobi, Ken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eptember 8-9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itle 2"/>
          <p:cNvSpPr/>
          <p:nvPr/>
        </p:nvSpPr>
        <p:spPr>
          <a:xfrm>
            <a:off x="1258920" y="4437000"/>
            <a:ext cx="5905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rudom@nepad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Improving early warning systems and crisis preven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rehensive risk assessments at national, district and community levels followed by the formulation of risk-reduction strategies at all administrative level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est in village level monitoring, reporting and prevention mechanis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engthening of sectoral information monitoring systems relevant to food and nutri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itutionalization of food insecurity risk management systems at national, regional and continental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ment of  national, regional and Pan-African emergency response mechanisms including trans-boundary animal disease contr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gration of local capacities and coping strategies into national and regional crisis preparedness strate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conditional transfers of food, cash, and other items where appropri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d utilization of domestic and regional trade to stabilize food supplies (and prices) in affected mark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of broad-based logistics capacities, decentralizing functions where feas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of protocols to enhance coordination among government, civil society, and international humanitarian ac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orporation of food and nutrition security under special recovery plans and existing poverty reduction strategies and pl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Improving management of emerge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Strengthening risk management policies and institu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24000" y="1341000"/>
            <a:ext cx="8640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ulation of improved risk mgt policies, incl. proactive review and use of alternative instruments to deal with crises, e.g., food &amp; financial reserves, weather-based insurance &amp; futures o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orporation of food &amp; nutrition security under special recovery plans and existing poverty reduction strategies and pl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tablishment of objective criteria for selecting among resource transfer modalities, focusing on in-kind food and cash transf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of policies and institutions for improved management of food surplu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of broad-based social protec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ing of food security platforms within social protec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Challenges in the implementation of FAF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jor capacity gap in data, information and knowledge in food security monitoring and disaster risk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457200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vy dependency on adhoc early warning and food security monitoring systems operated by partn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457200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ck of integration of such system in to national, regional, and continental strateg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457200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ck of Africa led framework that ensures standardized approach across countries and reg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457200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ck of integration, coordination and networking in managing food insecurity and disaster risk management and climate change challen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457200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ck of Continental investment --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NPCA is has identified key interventions  for the implementation of FAF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evelop a Continental early warning and food security information portal (platform) at NP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rengthen analytical capacity of NPCA and the AUC where information coming from the RECs and member states will be synthesized for decision making and policy dialogue and respon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engthen REC’s capacity to undertake Africa led emergency assessments, contingency planning and resource mobil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engthen member states and RECs operational capacity to respond to emerg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regional and continental  preparedness modalities for disaster risk red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ordinate institutional capacity building support for the AU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, RECs, regional EWS institutions and member st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Integrate in FAFS latest advances in Sci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240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660960" indent="-3052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mprovements in Food Sys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541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ovement in agriculture production and yie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541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oved agricultural processing and storag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541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oved water and soil conserv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541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olar, wind, geo-thermal and small scale hydro-electric gen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54160">
              <a:lnSpc>
                <a:spcPct val="120000"/>
              </a:lnSpc>
              <a:spcBef>
                <a:spcPts val="700"/>
              </a:spcBef>
              <a:buClr>
                <a:srgbClr val="f69b2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69b2c"/>
                </a:solidFill>
                <a:latin typeface="Calibri"/>
              </a:rPr>
              <a:t>Improved monitoring and early war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24160" indent="-254160">
              <a:lnSpc>
                <a:spcPct val="120000"/>
              </a:lnSpc>
              <a:spcBef>
                <a:spcPts val="499"/>
              </a:spcBef>
              <a:buClr>
                <a:srgbClr val="f69b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69b2c"/>
                </a:solidFill>
                <a:latin typeface="Calibri"/>
              </a:rPr>
              <a:t>Improved ICT and satellite appl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24160" indent="-254160">
              <a:lnSpc>
                <a:spcPct val="120000"/>
              </a:lnSpc>
              <a:spcBef>
                <a:spcPts val="499"/>
              </a:spcBef>
              <a:buClr>
                <a:srgbClr val="f69b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69b2c"/>
                </a:solidFill>
                <a:latin typeface="Calibri"/>
              </a:rPr>
              <a:t>Improved weather foreca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24160" indent="-254160">
              <a:lnSpc>
                <a:spcPct val="120000"/>
              </a:lnSpc>
              <a:spcBef>
                <a:spcPts val="499"/>
              </a:spcBef>
              <a:buClr>
                <a:srgbClr val="f69b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69b2c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f69b2c"/>
                </a:solidFill>
                <a:latin typeface="Calibri"/>
              </a:rPr>
              <a:t>Improved crop model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24160" indent="-254160">
              <a:lnSpc>
                <a:spcPct val="120000"/>
              </a:lnSpc>
              <a:spcBef>
                <a:spcPts val="499"/>
              </a:spcBef>
              <a:buClr>
                <a:srgbClr val="f69b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69b2c"/>
                </a:solidFill>
                <a:latin typeface="Calibri"/>
              </a:rPr>
              <a:t>Improved risk and hazard analysis and model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24160" indent="-254160">
              <a:lnSpc>
                <a:spcPct val="120000"/>
              </a:lnSpc>
              <a:spcBef>
                <a:spcPts val="499"/>
              </a:spcBef>
              <a:buClr>
                <a:srgbClr val="f69b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69b2c"/>
                </a:solidFill>
                <a:latin typeface="Calibri"/>
              </a:rPr>
              <a:t>Innovative applications such as drought insurance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395280" y="1413000"/>
            <a:ext cx="792000" cy="2447640"/>
          </a:xfrm>
          <a:custGeom>
            <a:avLst/>
            <a:gdLst>
              <a:gd name="textAreaLeft" fmla="*/ 506160 w 792000"/>
              <a:gd name="textAreaRight" fmla="*/ 792360 w 792000"/>
              <a:gd name="textAreaTop" fmla="*/ 65160 h 2447640"/>
              <a:gd name="textAreaBottom" fmla="*/ 2382480 h 24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20"/>
                  <a:pt x="10800" y="1839"/>
                </a:cubicBezTo>
                <a:lnTo>
                  <a:pt x="10800" y="8961"/>
                </a:lnTo>
                <a:cubicBezTo>
                  <a:pt x="10800" y="9881"/>
                  <a:pt x="5400" y="10800"/>
                  <a:pt x="0" y="10800"/>
                </a:cubicBezTo>
                <a:cubicBezTo>
                  <a:pt x="5400" y="10800"/>
                  <a:pt x="10800" y="11720"/>
                  <a:pt x="10800" y="12639"/>
                </a:cubicBezTo>
                <a:lnTo>
                  <a:pt x="10800" y="19761"/>
                </a:lnTo>
                <a:cubicBezTo>
                  <a:pt x="10800" y="20681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 rot="16200000">
            <a:off x="-1040400" y="16959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VELO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95280" y="3860640"/>
            <a:ext cx="863640" cy="2494080"/>
          </a:xfrm>
          <a:custGeom>
            <a:avLst/>
            <a:gdLst>
              <a:gd name="textAreaLeft" fmla="*/ 551880 w 863640"/>
              <a:gd name="textAreaRight" fmla="*/ 864000 w 863640"/>
              <a:gd name="textAreaTop" fmla="*/ 61200 h 2494080"/>
              <a:gd name="textAreaBottom" fmla="*/ 2432880 h 249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49"/>
                  <a:pt x="10800" y="1697"/>
                </a:cubicBezTo>
                <a:lnTo>
                  <a:pt x="10800" y="9103"/>
                </a:lnTo>
                <a:cubicBezTo>
                  <a:pt x="10800" y="9952"/>
                  <a:pt x="5400" y="10800"/>
                  <a:pt x="0" y="10800"/>
                </a:cubicBezTo>
                <a:cubicBezTo>
                  <a:pt x="5400" y="10800"/>
                  <a:pt x="10800" y="11649"/>
                  <a:pt x="10800" y="12497"/>
                </a:cubicBezTo>
                <a:lnTo>
                  <a:pt x="10800" y="19903"/>
                </a:lnTo>
                <a:cubicBezTo>
                  <a:pt x="10800" y="20752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 rot="16200000">
            <a:off x="-1083960" y="4799880"/>
            <a:ext cx="25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MERG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Role of Partners in Supporting NPCA’s Initia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1557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NPCA’s effort to establish an effective and transparent regional and continental level early warning and disaster risk management platf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ke part in the networking of regional and continental level early warning and disaster risk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in technical and financial resource mobilization to implement the NPCA planned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ordinate with the Regional Coordination Mechanism ( RCM)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griculture, Food security and Rural Development Cluster (AFSRD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AFSRDC  is led by FAO and WFP from the UN system and has concluded capacity needs assessment of the AUC and NP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In then MID Term Comprehensive Capacity Building Programme for NPCA and the AU, AFSRDC has identified specific capacity building prioriti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PCA and the AUC support the proposed Global FSIN initi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Africa, we hope this initiative will support and strengthen existing Africa led frameworks such as the implementation of FAF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stablishing a Continental early warning and food security information portal (platform) at NPCA will ensure political support at the highest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is will also ensure accountability, sustainability and also acceptability by African Governm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or our development partners interested to help in this area, NPCA has a detailed proposal that we could share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with you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rci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Introduc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r support to the humanitarian and development partners for their initiative to strengthen Food Security Information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ree on the need for such effort but need to consider ownership, accountability and ensure sustainability by supporting existing Africa owned framework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ectation of NPCA and the AUC from this meeting is a strong commitment to support African Effor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Food and Nutrition Insecurity Challen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od and Nutrition Situation of many Africans: precarious  state ; millions exposed to recurrent food and nutrition cri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501be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be5"/>
                </a:solidFill>
                <a:latin typeface="Calibri"/>
              </a:rPr>
              <a:t>The current crisis in the Horn of Africa where more than 13 million people are in need of emergency support is a case in poin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501be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be5"/>
                </a:solidFill>
                <a:latin typeface="Calibri"/>
              </a:rPr>
              <a:t>The AU, for the first time in its history has organized a pledging conference to raise resources from its member states for the emergenc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od and Nutrition problems are expected to be even more challenging as the underlining causes such as poverty and vulnerability are compounded by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501be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be5"/>
                </a:solidFill>
                <a:latin typeface="Calibri"/>
              </a:rPr>
              <a:t>The adverse impacts of Climate Chang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501be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be5"/>
                </a:solidFill>
                <a:latin typeface="Calibri"/>
              </a:rPr>
              <a:t>Persisting Global Financial Cri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501be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be5"/>
                </a:solidFill>
                <a:latin typeface="Calibri"/>
              </a:rPr>
              <a:t>High volatility for food, agricultural inputs and fu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African Leaders’ Commitment to Address the Challenges of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rican leaders, concerned by the limited progress in addressing the multitude of problems that Africans are facing, decided to establish Africa’s own agenda with a clear vision and strategy –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ew Partnership for Africa’s Development - NEP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EPAD was formally adopted as an integrated socio-economic development framework for Africa by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37th Ordinary Session of the Assembly of the then Organisation of African Unity (OAU) held in Lusaka, Zambia, in July 20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imary goal set by NEPAD is to promote sustainable growth and development and ensure the food and nutrition security of the whole of Afric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64072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Calibri"/>
              </a:rPr>
              <a:t>Key principles that guide the implementation of NEP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frican ownership and leadership, &amp; broad and deep participation by all sectors of society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nchoring the development of Africa on its resources and resourcefulness of its people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artnership between and amongst African peoples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cceleration of regional and continental integration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ilding the competitiveness of African countries and the continent as a whole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forging a new international partnership that changes the unequal relationship between Africa and the developed world; &amp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nsuring that all partnerships with NPCA are linked to the Millennium Development Goals (MDGs) and other agreed development goals and targe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1be5"/>
                </a:solidFill>
                <a:latin typeface="Calibri"/>
              </a:rPr>
              <a:t>The NEPAD Planning and Coordinating Agency and its mand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acilitate the delivery of high quality programmes and projects and to promote Africa’s Development and Regional Integration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1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U assembly transformed NEPAD into the NEPAD Planning and Coordinating Agency NPCA 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28880" indent="-514440">
              <a:buClr>
                <a:srgbClr val="00b05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Strengthen networking and partn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28880" indent="-514440">
              <a:buClr>
                <a:srgbClr val="00b05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Mobilize expert knowledge and re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28880" indent="-514440">
              <a:buClr>
                <a:srgbClr val="00b05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Conduct coordinated research and knowledge manage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28880" indent="-514440">
              <a:buClr>
                <a:srgbClr val="00b05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Facilitate, coordinate and establish networking in the implementation of regional, and continental priority programs and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NPCA priority areas of interven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01be5"/>
                </a:solidFill>
                <a:latin typeface="Calibri"/>
              </a:rPr>
              <a:t>The five themes of NPCA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ood Security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limate Change and Sustainable Developmen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gional Integration and Infrastructu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uman Capital Development;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conomic and Corporate Govern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00000"/>
                </a:solidFill>
                <a:latin typeface="Calibri"/>
              </a:rPr>
              <a:t>The Comprehensive Africa’s Agriculture Development Programme - CAAD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01be5"/>
                </a:solidFill>
                <a:latin typeface="Calibri"/>
              </a:rPr>
              <a:t>Food security cluster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– establishment of CAADP - Africa’s response to agricultural development and food security. CAADP has four mutually reinforcing and interlinked pillars: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Pillar I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Extending the area under sustainable land management and reliable water control system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Pillar II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Improving rural infrastructure and trade-related capacities for market acces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501b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501be5"/>
                </a:solidFill>
                <a:latin typeface="Calibri"/>
              </a:rPr>
              <a:t>Pillar III</a:t>
            </a:r>
            <a:r>
              <a:rPr b="1" lang="en-GB" sz="2400" spc="-1" strike="noStrike">
                <a:solidFill>
                  <a:srgbClr val="501be5"/>
                </a:solidFill>
                <a:latin typeface="Calibri"/>
              </a:rPr>
              <a:t>: Increasing food supply, reducing hunger and improving responses to food emergency crises;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Pillar IV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Improving agriculture research, technology dissemination and ado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Calibri"/>
              </a:rPr>
              <a:t>CAADP Pillar III Framework for African Food Security (FAF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PCA in collaboration with its partners has developed  a f/work  for food and nutrition security with the following elemen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501be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01be5"/>
                </a:solidFill>
                <a:latin typeface="Calibri"/>
              </a:rPr>
              <a:t>Improving  risk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arly warning and crisis preven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nagement of emerg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engthening risk management policies and instit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501be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01be5"/>
                </a:solidFill>
                <a:latin typeface="Calibri"/>
              </a:rPr>
              <a:t>Increasing food supp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atural resourc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echnology development and upta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rketing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501be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01be5"/>
                </a:solidFill>
                <a:latin typeface="Calibri"/>
              </a:rPr>
              <a:t>Addressing the needs of vulnerable popul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come generating opportun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sset accumu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ustainable livelihoo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frastruc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2:36:08Z</dcterms:created>
  <dc:creator>Benita Nsabua</dc:creator>
  <dc:description/>
  <dc:language>en-US</dc:language>
  <cp:lastModifiedBy>Luca Russo</cp:lastModifiedBy>
  <dcterms:modified xsi:type="dcterms:W3CDTF">2011-09-08T06:11:37Z</dcterms:modified>
  <cp:revision>24</cp:revision>
  <dc:subject/>
  <dc:title>Slide 1</dc:title>
</cp:coreProperties>
</file>